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2b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D0E-C329-4336-A51F-C110043D6F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D65B-5845-4719-ACED-C3D541978A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493-FD3A-490D-9F20-B6149439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3F6-56B4-4738-ADE9-51BA6DB2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378-1657-4ECF-96BD-7C3FBFC9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AD6-AD1B-4149-8B46-975CCBF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E653-493C-4C98-BA75-92851FBD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F69F-A23A-4519-AAD6-CFF7AD0A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67D-F339-4435-B81F-ED5BB8BC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0AE6-D1B0-4235-B257-00D7BD5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8FD-2908-428B-B3C3-E0F87B88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B60A-C3C2-4C02-BC98-325B3801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763-4E7F-4A9D-9152-6A79088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C5E-B93D-46DA-9955-C3ECFE42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509B-617C-436D-800B-E49F7352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5273-F6C5-47DC-88B7-E817321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DB44-982B-4C84-BA4D-E9CF0A33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7135-9AE4-4CDD-8BBC-E9C8D138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785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6CB-7A8D-4662-9037-31307255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107-3E80-4C08-BEC1-CDBA7DB1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ED5-2542-4147-89AB-0460430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F97-D1BF-413E-9579-FF29E31C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01A-D7CD-4362-BE06-42BA5C3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366-F0FA-45E5-BC23-9A578A8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785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EBE-5652-442A-8CF0-F5D2688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85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71C-4D47-4A0F-8858-057C82A0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2b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22b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268B-BDE5-49C8-9861-FB249D94D785}" type="slidenum"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ppfahrt_logo_medium"/>
          <p:cNvPicPr/>
          <p:nvPr/>
        </p:nvPicPr>
        <p:blipFill>
          <a:blip r:embed="rId2"/>
          <a:srcRect l="0" t="14102" r="4228" b="4157"/>
          <a:stretch/>
        </p:blipFill>
        <p:spPr>
          <a:xfrm>
            <a:off x="7128000" y="71280"/>
            <a:ext cx="1908000" cy="162900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19080">
            <a:solidFill>
              <a:srgbClr val="8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appfahrt_logo_medium"/>
          <p:cNvPicPr/>
          <p:nvPr/>
        </p:nvPicPr>
        <p:blipFill>
          <a:blip r:embed="rId2"/>
          <a:srcRect l="0" t="14102" r="4228" b="4157"/>
          <a:stretch/>
        </p:blipFill>
        <p:spPr>
          <a:xfrm>
            <a:off x="3087720" y="260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2b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22b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2b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22b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464-BD0D-4BA4-819B-6975F38ED961}" type="slidenum">
              <a:rPr b="0" lang="de-DE" sz="1400" spc="-1" strike="noStrike">
                <a:solidFill>
                  <a:srgbClr val="822b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Vorstellung erster Ergebniss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Fortgeschrittene Softwaretechnologie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Dortmund, 09. April 2011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D3A4-C12A-4D93-B4EF-D1B38CE86996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Nicht-funktionale Anforderunge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muss zuverlässig sei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muss grafisch ansprechend sein und intuitiv bedienbar sei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muss in wenigen Sekunden Ergebnisse zurückliefer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sollte möglichst wenig Ressourcen verbrauchen, da sie auf mobilen Endgeräten verwendet werden soll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ie Anwendung sollte so entwickelt werden, dass sie leicht anpassbar, erweiterbar, wartbar und Funktionalitäten leicht ausgetauscht werden könn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0"/>
          <p:cNvSpPr/>
          <p:nvPr/>
        </p:nvSpPr>
        <p:spPr>
          <a:xfrm>
            <a:off x="539640" y="1363680"/>
            <a:ext cx="75805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4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Z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Projektidee zu konkretisie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Umfang der Lösung einzugrenz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Für die Erstellung der Use Case Diagramme wurde das eclipse Plugin UML2-Tools verwend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Anwendungsfälle wurden in 2 Pakete geclustert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Fahrt planen und durchfüh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822b00"/>
                </a:solidFill>
                <a:latin typeface="Arial"/>
                <a:ea typeface="Arial"/>
              </a:rPr>
              <a:t>User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Anwendungsfälle wurden in der Anwendungsfallschablone nach Cockburn beschrie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3708360" y="4365720"/>
          <a:ext cx="6764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365720"/>
                    <a:ext cx="676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3"/>
          <p:cNvGraphicFramePr/>
          <p:nvPr/>
        </p:nvGraphicFramePr>
        <p:xfrm>
          <a:off x="4716360" y="4005360"/>
          <a:ext cx="5731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005360"/>
                    <a:ext cx="5731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Umzusetzende Systemanwendungsfäll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Architektur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Android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OpenStreetMap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Backend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Maven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Java EE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Hibernate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CXF Webservices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48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D431-E263-441F-825E-477073093CAF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Architektur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5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3619-387C-4F12-9C03-59C6886F291A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nhaltsplatzhalter 3" descr=""/>
          <p:cNvPicPr/>
          <p:nvPr/>
        </p:nvPicPr>
        <p:blipFill>
          <a:blip r:embed="rId1"/>
          <a:stretch/>
        </p:blipFill>
        <p:spPr>
          <a:xfrm>
            <a:off x="1133640" y="1103400"/>
            <a:ext cx="6632280" cy="487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Datenbankentwurf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5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99AC-7037-4D8F-ADFA-BFB6FF86067C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nhaltsplatzhalter 6" descr=""/>
          <p:cNvPicPr/>
          <p:nvPr/>
        </p:nvPicPr>
        <p:blipFill>
          <a:blip r:embed="rId1"/>
          <a:stretch/>
        </p:blipFill>
        <p:spPr>
          <a:xfrm>
            <a:off x="1262160" y="1103400"/>
            <a:ext cx="6218280" cy="47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Komponentendiagramm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6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87CC-63F2-4D3F-B7A6-83371DFA257F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Documents and Settings\adimitro\My Documents\Studium\Fortgeschrittene SW\komponentendiagramm2.png"/>
          <p:cNvPicPr/>
          <p:nvPr/>
        </p:nvPicPr>
        <p:blipFill>
          <a:blip r:embed="rId1"/>
          <a:stretch/>
        </p:blipFill>
        <p:spPr>
          <a:xfrm>
            <a:off x="378000" y="1822320"/>
            <a:ext cx="8253360" cy="3988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Screenshot - Programmstart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6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EF6A-C721-446B-A682-3B5268FC0189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822400" y="1103400"/>
            <a:ext cx="3029040" cy="473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Screenshot - Kontakdate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7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B74-D292-40A8-AB04-C6567FEC2958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0640" y="1176480"/>
            <a:ext cx="3058920" cy="4870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913200" y="1176480"/>
            <a:ext cx="3060720" cy="487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314172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Vielen Dank für Ihre Aufmerksamkeit</a:t>
            </a:r>
            <a:endParaRPr b="0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78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B1E4-4CA4-4146-B52C-B5C2B17D85F7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adimitro\Desktop\icon-community_management-b.jpg"/>
          <p:cNvPicPr/>
          <p:nvPr/>
        </p:nvPicPr>
        <p:blipFill>
          <a:blip r:embed="rId1"/>
          <a:stretch/>
        </p:blipFill>
        <p:spPr>
          <a:xfrm>
            <a:off x="3635280" y="285264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2729-FA22-4452-B455-6F0E5414375E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Ideensammlung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Zielgruppe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Machbarkeitsstudie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rojektinitiierung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rojektpla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unktionale Anforderung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Nicht-funktionale Anforderung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Use-Case Diagramme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rchitekturentwurf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Datenbankentwurf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Screenshots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Komponentendiagramm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Ideensammlung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Idee </a:t>
            </a: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Brainstorming </a:t>
            </a: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Mindmap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nalyse des Marktes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Ähnliche Produkte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Bedarf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Konkurrenz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uswahl möglicher Realisierungstechnologi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Erfassung von Risik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1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C29A-8556-4F79-9723-D053E0DF6676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Ideensammlung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0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F3B-A36E-47F2-871E-6A0D7282ADE4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58760" y="2114640"/>
            <a:ext cx="8869320" cy="311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744-3B26-4954-870F-79E879E63CC7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Zielgrupp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lieber mit dem Auto als mit                      der Bahn unterwegs sind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lexibilitä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kein Fahrzeug besitzen aber unabhängig von Bus und Bahn sein wollen oder sein müss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Flexibilität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mobil sein wollen aber dabei Geld sparen woll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Kosten sparen, sparsamer Umgang mit Ressourc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Personen, die nicht gerne alleine unterwegs sind und andere Leute kennen lernen wolle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sozialer Faktor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Machbarkeitsstudie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1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899-9D1A-4122-9194-B76668935A62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3780000" y="2781360"/>
          <a:ext cx="174456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781360"/>
                    <a:ext cx="17445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Projektinitiierung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uswahl Vorgehensmodell </a:t>
            </a:r>
            <a:r>
              <a:rPr b="0" lang="de-DE" sz="2400" spc="-1" strike="noStrike">
                <a:solidFill>
                  <a:srgbClr val="822b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 RUP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Erstellung eines Projektplans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Infrastruktur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Wiki für Artefakte (Lasten-, Pflichtenheft, etc.)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SVN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UML 2.0 (Eclipse AddOn)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2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5D46-F85B-4883-B42A-9E37D376E65A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Projektpla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26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9AC-DD37-41F1-AE1D-E3E1B042F7AC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1844640"/>
          <a:ext cx="5904000" cy="3529080"/>
        </p:xfrm>
        <a:graphic>
          <a:graphicData uri="http://schemas.openxmlformats.org/drawingml/2006/table">
            <a:tbl>
              <a:tblPr/>
              <a:tblGrid>
                <a:gridCol w="3809880"/>
                <a:gridCol w="2094120"/>
              </a:tblGrid>
              <a:tr h="325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63636"/>
                          </a:solidFill>
                          <a:latin typeface="Calibri"/>
                        </a:rPr>
                        <a:t>Vorgangs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dfe3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363636"/>
                          </a:solidFill>
                          <a:latin typeface="Calibri"/>
                        </a:rPr>
                        <a:t>Fertig ste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dfe3e8"/>
                    </a:solidFill>
                  </a:tcPr>
                </a:tc>
              </a:tr>
              <a:tr h="380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Fah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16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initi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14.0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forderungsermittl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spezifiz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hitekturentw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bentw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inentw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02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tätssich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 16.0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b1bbcc"/>
                      </a:solidFill>
                    </a:lnL>
                    <a:lnR w="2880">
                      <a:solidFill>
                        <a:srgbClr val="b1bbcc"/>
                      </a:solidFill>
                    </a:lnR>
                    <a:lnT w="2880">
                      <a:solidFill>
                        <a:srgbClr val="b1bbcc"/>
                      </a:solidFill>
                    </a:lnT>
                    <a:lnB w="2880">
                      <a:solidFill>
                        <a:srgbClr val="b1bb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09. Apri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22b00"/>
                </a:solidFill>
                <a:latin typeface="Arial"/>
              </a:rPr>
              <a:t>Dimitrov, Höpfner, Menze, Webersberger, Wehm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49FF-956B-4F03-A98B-51E4D7F2CA30}" type="slidenum">
              <a:rPr b="0" lang="de-DE" sz="1400" spc="-1" strike="noStrike">
                <a:solidFill>
                  <a:srgbClr val="822b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22b00"/>
                </a:solidFill>
                <a:latin typeface="Arial"/>
              </a:rPr>
              <a:t>Funktionale Anforderungen</a:t>
            </a:r>
            <a:endParaRPr b="1" lang="en-US" sz="3600" spc="-1" strike="noStrike">
              <a:solidFill>
                <a:srgbClr val="822b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Anmeldung soll erforderlich sein und über                     die App selbst oder über einen vorhandenen       Facebook-Account erfolg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Es sollen spontan Fahrgemeinschaften gebildet werden könn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Eingabe von Start, Ziel, Beginndatum, ggf. Sitzplätze und Preis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Mitfahrer können Fahrer und Fahrten suchen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2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22b00"/>
                </a:solidFill>
                <a:latin typeface="Arial"/>
              </a:rPr>
              <a:t>Fahrer können Fahrten eingeben und Mitfahrer suchen </a:t>
            </a:r>
            <a:endParaRPr b="0" lang="en-US" sz="20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Kontaktaufnahme zwischen den Fahrern/Mitfahrern muss möglich sein 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Suche und Anzeige von Fahrten soll unter Eingabe eines bestimmten Umkreises erfolgen können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22b00"/>
                </a:solidFill>
                <a:latin typeface="Arial"/>
              </a:rPr>
              <a:t>Bewertung von Fahrern durch Sterne und Freitext</a:t>
            </a:r>
            <a:endParaRPr b="0" lang="en-US" sz="2400" spc="-1" strike="noStrike">
              <a:solidFill>
                <a:srgbClr val="822b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7:42:23Z</dcterms:created>
  <dc:creator>Andrea</dc:creator>
  <dc:description/>
  <dc:language>en-US</dc:language>
  <cp:lastModifiedBy>adimitro</cp:lastModifiedBy>
  <dcterms:modified xsi:type="dcterms:W3CDTF">2011-04-08T19:09:43Z</dcterms:modified>
  <cp:revision>12</cp:revision>
  <dc:subject/>
  <dc:title>Vorstellung erster Ergebnisse</dc:title>
</cp:coreProperties>
</file>